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778DB-257D-4FF1-A250-3B6ECD36D8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FD8FE-4832-470A-BB60-5C92D54D6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8CEFA-E1F2-43B5-9492-94FC0469CFC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B74-F90C-4E60-A0A4-A979CFF3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BF7-A395-46A0-8677-0C334E6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0095-7D6D-471A-A423-ADB109EA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358-8F72-4ED2-A06E-C722AA5D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F98-867E-4D7D-A161-B4051413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29A-4492-4F51-A793-3BF21945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FDF-B284-4A39-8844-AC68EA07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E1E-F593-49D4-8970-F090D0E1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253-5E05-4975-9382-AE87278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DC0-6977-410D-9D0A-32DB6D92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209-21E9-4671-9E70-ACDD3B9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AF7-D916-4479-A630-F93116F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C75A4-D9E6-47F8-A64D-484D9FED8DE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43416-DE03-426F-9E94-0606C97A66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ebate Activity: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Black And Whi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Forming a BASIC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5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8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400" spc="-1" strike="noStrike">
                <a:solidFill>
                  <a:srgbClr val="ffffff"/>
                </a:solidFill>
                <a:latin typeface="Calibri"/>
              </a:rPr>
              <a:t>Marcus should tell the police that Eddie was involved in the crime.</a:t>
            </a:r>
            <a:endParaRPr b="0" lang="en-US" sz="7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kill #1:  Making 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BASIC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Argum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200" spc="-1" strike="noStrike">
                <a:solidFill>
                  <a:srgbClr val="ffffff"/>
                </a:solidFill>
                <a:latin typeface="Calibri"/>
              </a:rPr>
              <a:t>Claim + Warrant</a:t>
            </a:r>
            <a:endParaRPr b="0" lang="en-US" sz="9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 u="sng">
                <a:solidFill>
                  <a:srgbClr val="ffffff"/>
                </a:solidFill>
                <a:uFillTx/>
                <a:latin typeface="Calibri"/>
              </a:rPr>
              <a:t>Claim =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libri"/>
              </a:rPr>
              <a:t>A Controversial Statement</a:t>
            </a:r>
            <a:endParaRPr b="0" lang="en-US" sz="5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 u="sng">
                <a:solidFill>
                  <a:srgbClr val="ffffff"/>
                </a:solidFill>
                <a:uFillTx/>
                <a:latin typeface="Calibri"/>
              </a:rPr>
              <a:t>Warrant</a:t>
            </a:r>
            <a:r>
              <a:rPr b="1" lang="en-US" sz="5500" spc="-1" strike="noStrike">
                <a:solidFill>
                  <a:srgbClr val="ffffff"/>
                </a:solidFill>
                <a:latin typeface="Calibri"/>
              </a:rPr>
              <a:t> = </a:t>
            </a: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Calibri"/>
              </a:rPr>
              <a:t>Reason the Statement is true</a:t>
            </a:r>
            <a:endParaRPr b="0" lang="en-US" sz="5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6200" spc="-1" strike="noStrike">
                <a:solidFill>
                  <a:srgbClr val="ffffff"/>
                </a:solidFill>
                <a:latin typeface="Calibri"/>
              </a:rPr>
              <a:t>McDonalds is better than Burger King.</a:t>
            </a:r>
            <a:endParaRPr b="0" lang="en-US" sz="6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Calibri"/>
              </a:rPr>
              <a:t>Brighton High School is better then Charlestown High School.</a:t>
            </a:r>
            <a:endParaRPr b="0" lang="en-US" sz="6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Calibri"/>
              </a:rPr>
              <a:t>Marcus’s mom supports her son.</a:t>
            </a:r>
            <a:endParaRPr b="0" lang="en-US" sz="7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aim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Marcus is treated unfairly, because he is black.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06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aim #4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Eddie should let authorities know he was the shooter.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4:05:24Z</dcterms:created>
  <dc:creator>Teacher</dc:creator>
  <dc:description/>
  <dc:language>en-US</dc:language>
  <cp:lastModifiedBy>Teacher</cp:lastModifiedBy>
  <dcterms:modified xsi:type="dcterms:W3CDTF">2011-10-21T17:08:08Z</dcterms:modified>
  <cp:revision>7</cp:revision>
  <dc:subject/>
  <dc:title>Debate Activity:  Black And White</dc:title>
</cp:coreProperties>
</file>